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F8B-E66D-4461-B58F-F4DCEBD5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B66-04EC-4126-B1DE-7784E3F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235-6829-4E28-8632-AED016E7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4A6-05B8-4496-A438-EC58B72A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375-D12B-4541-85E5-F7F00FAD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959-D031-44C2-BD71-58C0794B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969-7F91-42BE-BB5F-CF34CBE6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079-C9A4-414F-BE8D-AE80F6D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9D4-DD66-4835-8583-C07963F4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656-81F1-4690-AFE5-37FAB62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241-B959-440C-8C09-7E602CC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354-D310-4820-8327-A02E9968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6C3B-B596-4E14-AA38-968ADB29E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7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1960" y="2285640"/>
            <a:ext cx="4190760" cy="34290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en Elizabeth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 Phili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noke Colo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town Col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rs of Land and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1500s, Elizabeth of England and Philip of Spain were the most powerful leaders in the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wanted to rule the world’s oceans and build colonies in the Amer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s over treasure and religion led to fighting between Spain and En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Studies book – Chapter 4, Lessons 1 and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en Elizabeth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1280" y="272880"/>
            <a:ext cx="556272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zabeth became Queen of _______ in ____ – England was not as strong as _____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reorganized the __________ to make it _________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surrounded herself with ___________ advisors, and attended nearly all of their __________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 sent ___________ on costly _________ to find new _____ rout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built up the English 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the end of her reign, England was one of the world’s most ________na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SP5S-NA5B-NHN-127.gif"/>
          <p:cNvPicPr/>
          <p:nvPr/>
        </p:nvPicPr>
        <p:blipFill>
          <a:blip r:embed="rId1"/>
          <a:srcRect l="7546" t="20000" r="29507" b="37781"/>
          <a:stretch/>
        </p:blipFill>
        <p:spPr>
          <a:xfrm>
            <a:off x="152280" y="18288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7840" y="151920"/>
            <a:ext cx="3465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ing Phillip II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1527 – 15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880"/>
            <a:ext cx="51116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ain was already a _______ nation when Philip became k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_________ ruler who spent most of his time managing his empir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t _________ to start ________ in the Amer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enlarged the Spanish _____ and 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y religious – wanted to spread Roman __________ throughout the worl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ed to conquer ________ and other countr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P5S-NA5B-NHN-126.gif"/>
          <p:cNvPicPr/>
          <p:nvPr/>
        </p:nvPicPr>
        <p:blipFill>
          <a:blip r:embed="rId1"/>
          <a:srcRect l="54393" t="45561" r="0" b="0"/>
          <a:stretch/>
        </p:blipFill>
        <p:spPr>
          <a:xfrm>
            <a:off x="304920" y="1584360"/>
            <a:ext cx="33526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t Matter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was no longer the only European power exploring North Americ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and, France, and the Netherlands began to claim land on the eastern part of North American during the 1500s and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noke 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land’s rulers wanted a colony in ______ 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585, about 100 English men settled on _________ Island, off the coast of present-day ______ 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____ , _____ White (the leader of the colony) returned to _______ for suppl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he returned _____ years later, the colonists had _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_____ Colony” of Roanoke is still a ________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SP5S-NA5B-NHN-131.gif"/>
          <p:cNvPicPr/>
          <p:nvPr/>
        </p:nvPicPr>
        <p:blipFill>
          <a:blip r:embed="rId1"/>
          <a:srcRect l="7546" t="0" r="39752" b="61112"/>
          <a:stretch/>
        </p:blipFill>
        <p:spPr>
          <a:xfrm>
            <a:off x="228600" y="1828800"/>
            <a:ext cx="3429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amestown 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33560" y="75960"/>
            <a:ext cx="5568840" cy="65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_____, about 100 men and boys traveled to present-day 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built a ______ on the banks of a riv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named their colony ___________after King _____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612, John ______ began growing _________ and the settlement gre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________ and the English colonists _______ over land for 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mestown was the ________ successful ________ settlement in ______ 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upload.wikimedia.org/wikipedia/en/b/b2/Map_showing_location_of_Jamestown_and_Roanoke_Island_Colonies.PNG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is Queen Elizabeth I famou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is King Philip II famou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the people of the Roanoke Colon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mou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the people of the Jamestown Colony famous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1-07T12:02:17Z</dcterms:modified>
  <cp:revision>20</cp:revision>
  <dc:subject/>
  <dc:title>Famous People Friday</dc:title>
</cp:coreProperties>
</file>